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ush.wav" ContentType="audio/x-wav"/>
  <Override PartName="/ppt/media/image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explode.wav" ContentType="audio/x-wav"/>
  <Override PartName="/ppt/media/image7.jpeg" ContentType="image/jpeg"/>
  <Override PartName="/ppt/media/wind.wav" ContentType="audio/x-wav"/>
  <Override PartName="/ppt/media/image12.jpeg" ContentType="image/jpeg"/>
  <Override PartName="/ppt/media/image15.jpeg" ContentType="image/jpeg"/>
  <Override PartName="/ppt/media/image14.jpeg" ContentType="image/jpeg"/>
  <Override PartName="/ppt/media/laser.wav" ContentType="audio/x-wav"/>
  <Override PartName="/ppt/media/image4.jpeg" ContentType="image/jpeg"/>
  <Override PartName="/ppt/media/coin.wav" ContentType="audio/x-wav"/>
  <Override PartName="/ppt/media/image13.jpeg" ContentType="image/jpeg"/>
  <Override PartName="/ppt/media/image1.jpeg" ContentType="image/jpeg"/>
  <Override PartName="/ppt/media/image6.jpeg" ContentType="image/jpeg"/>
  <Override PartName="/ppt/media/applause.wav" ContentType="audio/x-wav"/>
  <Override PartName="/ppt/media/drumroll.wav" ContentType="audio/x-wav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DBD1-6937-41AC-9DF7-8B29950CD8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B4FE-480C-495A-A19D-1C063D6FBE4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5B86-BD49-4AC5-9578-D9A18BB0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71F-6CB6-4C19-BBD8-6F4AA59B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6807-85F7-41D2-A07B-9CEB1E72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6F7-B5CC-437B-A49F-511382C4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4FC6-7542-4828-AC8C-293CD4EA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A727-9A2F-4119-8DDB-7FA1070C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8242-4535-4A5C-9CA1-5D0DA2B0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B480-3AD8-415A-AF3B-17AB2D19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E4D4-1EE7-42D7-8A20-DA6E1AAD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63FF-360F-4BF0-95F5-845FDB83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DF2B-55D2-4CF5-A0C7-7807B328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DD90-080B-4B70-86B1-C6C64FFD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379F-F49B-46B7-AAA7-FE8B110B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D7BB-3386-47D3-A168-46A9CFB5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28A0-0E2E-46E1-92FC-E347D53E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EFC0-97CF-455A-A2B9-C7F79919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E7E5-B7AE-4725-A551-017D144D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4A27-4099-4FA1-9E6B-8C3DDE68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2065-CE09-4DFD-86FA-E3239949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1F7-4C63-4992-A541-FE14DE5D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515F-2660-4488-9C93-E96A1CBA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CDC-2559-4F5F-B609-CCEE3596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B2D-6F3E-4603-9D21-3913C181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B21-650B-4F9E-BFD6-E99DFFFA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7E20-5E35-4D34-867E-8EF32F4CAFE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7A2E-AB53-47A2-820D-174703060E7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baptistcollege.edu/news_events/press/2006/russia_homeless_0306.jpg&amp;imgrefurl=http://www.baptistcollege.edu/news_events/press/2006/russia_homeless.htm&amp;usg=__n-JQfrmj-evry7nToidx313KVqU=&amp;h=480&amp;w=640&amp;sz=191&amp;hl=en&amp;start=2&amp;zoom=1&amp;itbs=1&amp;tbnid=fYq-kJqBQrYaLM:&amp;tbnh=103&amp;tbnw=137&amp;prev=/images%3Fq%3Drussia%2Bhomeless%2Bpeople%26hl%3Den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1.bp.blogspot.com/_CAoFDpupTaY/THEUk7uGXgI/AAAAAAAACTE/hGVd-AhgGrM/s1600/medvedev%255B1%255D.jpg&amp;imgrefurl=http://legendofpineridge.blogspot.com/2010/08/president-medvedev-says-russians-have.html&amp;usg=__DHaWGLZ6k365YwBM7fp8_TWcZXY=&amp;h=800&amp;w=533&amp;sz=62&amp;hl=en&amp;start=11&amp;zoom=1&amp;itbs=1&amp;tbnid=d8m4Ss7mGpUa8M:&amp;tbnh=143&amp;tbnw=95&amp;prev=/images%3Fq%3Drussian%2Bpresident%2B2010%26hl%3Den%26gbv%3D2%26tbs%3Disch:1" TargetMode="External"/><Relationship Id="rId4" Type="http://schemas.openxmlformats.org/officeDocument/2006/relationships/image" Target="../media/image2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rkbrouwer.com/wp-content/uploads/2008/01/holding-hope.jpg&amp;imgrefurl=http://markbrouwer.com/%3Fp%3D118&amp;usg=__X8R57vJvarkN9ApZ9h7LAj8oWNM=&amp;h=357&amp;w=336&amp;sz=107&amp;hl=en&amp;start=1&amp;zoom=1&amp;itbs=1&amp;tbnid=lSkOd2uHYpCTSM:&amp;tbnh=121&amp;tbnw=114&amp;prev=/images%3Fq%3Dpeople%2Bstruggling%26hl%3Den%26gbv%3D2%26tbs%3Disch:1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google.com/imgres?imgurl=http://www.marketoracle.co.uk/images/russian-poverty.jpg&amp;imgrefurl=http://www.marketoracle.co.uk/Article22127.html&amp;usg=__xvlswQQXhmMGL7i7uHsojTwguvw=&amp;h=180&amp;w=150&amp;sz=16&amp;hl=en&amp;start=2&amp;zoom=1&amp;itbs=1&amp;tbnid=I8i9bO5Y-oiLdM:&amp;tbnh=101&amp;tbnw=84&amp;prev=/images%3Fq%3Drussian%2Bpoverty%26hl%3Den%26gbv%3D2%26tbs%3Disch:1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Brush Script MT"/>
              </a:rPr>
              <a:t>Present Day Russi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Ryan L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5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2" descr="Vladmir.jpg"/>
          <p:cNvPicPr/>
          <p:nvPr/>
        </p:nvPicPr>
        <p:blipFill>
          <a:blip r:embed="rId1"/>
          <a:stretch/>
        </p:blipFill>
        <p:spPr>
          <a:xfrm>
            <a:off x="457200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1" descr="Boris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edvedev-1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http://t3.gstatic.com/images?q=tbn:ANd9GcQr1LrsoHQJr2uxSzMsdhx395TqtyZyG01UdLX_-3E5rMYvy2uQqA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8" descr="http://t1.gstatic.com/images?q=tbn:ANd9GcRF70OPQIR3zOL9oapKiZ9YjfRqff5-mYMutL1Pnzm35yDv8Iy7oA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Bodoni MT Condensed"/>
              </a:rPr>
              <a:t>Government Method Backfi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Presidents serve a term for six years and may be elected for back-to-back ter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hange of government from communist to democracy cause many probl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Job losses caused by wrong choices in career because after they changed to democracy, they became a free market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Russians decided to reduce price so people can afford it. However, they were short on supply so they needed to raise the price and many people couldn’t afford it anymo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opied the U.S. democracy government but the Russian president has more power like signing laws with only his/her own approval but some use it to make decisions but they aren’t always good decis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AutoShape 2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AutoShape 14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16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AutoShape 20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22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26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AutoShape 30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32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AutoShape 34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AutoShape 36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AutoShape 38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40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AutoShape 42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AutoShape 44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AutoShape 46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AutoShape 48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  <p:sndAc>
      <p:stSnd>
        <p:snd r:embed="rId6" name="explode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895480"/>
            <a:ext cx="9185400" cy="9753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"/>
              </a:rPr>
              <a:t>Challe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Agriculture is horrible because it is so cold the ground doesn’t thaw out until May or June making it hard to plant cro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Life expectancy decrea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91440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"/>
          <p:cNvPicPr/>
          <p:nvPr/>
        </p:nvPicPr>
        <p:blipFill>
          <a:blip r:embed="rId5"/>
          <a:stretch/>
        </p:blipFill>
        <p:spPr>
          <a:xfrm>
            <a:off x="5486400" y="914400"/>
            <a:ext cx="2666880" cy="243828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6" name="push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7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9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51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c1"/>
                </a:solidFill>
                <a:latin typeface="augie"/>
              </a:rPr>
              <a:t>Bad Deci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Built nuclear power plants that leave dangerous by-produ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Changed to democracy which was a hard transition because many things were n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Nuclear power plants by-products cause explosion in Chernobyl and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5" descr="http://t3.gstatic.com/images?q=tbn:ANd9GcQrAerm14nb-BZU2l2kSMlqHK7SlIktJV1Zck1y2FOacLooI4kGkjuAW6NcBQ"/>
          <p:cNvPicPr/>
          <p:nvPr/>
        </p:nvPicPr>
        <p:blipFill>
          <a:blip r:embed="rId1"/>
          <a:stretch/>
        </p:blipFill>
        <p:spPr>
          <a:xfrm>
            <a:off x="609480" y="1143000"/>
            <a:ext cx="1676520" cy="1814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http://t3.gstatic.com/images?q=tbn:ANd9GcSELAMPGTLf-YyiFNWskzcN3QHp8wgvE02cal00Dza5ecMVCeFv"/>
          <p:cNvPicPr/>
          <p:nvPr/>
        </p:nvPicPr>
        <p:blipFill>
          <a:blip r:embed="rId2"/>
          <a:stretch/>
        </p:blipFill>
        <p:spPr>
          <a:xfrm>
            <a:off x="2743200" y="1066680"/>
            <a:ext cx="2467080" cy="185760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9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15" descr="http://t1.gstatic.com/images?q=tbn:ANd9GcTyxYa-f3CEnibGYexTF4Sof0M4tVNsF6QM2oA-M-ipi-v6IVg3Wg"/>
          <p:cNvPicPr/>
          <p:nvPr/>
        </p:nvPicPr>
        <p:blipFill>
          <a:blip r:embed="rId3"/>
          <a:stretch/>
        </p:blipFill>
        <p:spPr>
          <a:xfrm>
            <a:off x="5867280" y="10666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4" name="laser.wav"/>
      </p:stSnd>
    </p:sndAc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61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5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69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71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73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42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431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36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Gill Sans Ultra Bold"/>
              </a:rPr>
              <a:t>Disast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il spill – 25,000,000 gallons of oil spilled and they didn’t have proper clean up materials so they burned it, causing pollution. Later, it was fixed in Serb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AutoShape 2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Picture 10" descr="http://t2.gstatic.com/images?q=tbn:ANd9GcTmHhecxNYF-oN6Z9oOtV9KWl9UIoyzlLo8tQ-fGOMOu-lCJjFtAQ"/>
          <p:cNvPicPr/>
          <p:nvPr/>
        </p:nvPicPr>
        <p:blipFill>
          <a:blip r:embed="rId1"/>
          <a:stretch/>
        </p:blipFill>
        <p:spPr>
          <a:xfrm>
            <a:off x="2438280" y="1219320"/>
            <a:ext cx="4191120" cy="319536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12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Picture 14" descr="http://t1.gstatic.com/images?q=tbn:ANd9GcRAlRH6_JF5cTml1-166vc2ZAjV8Hsb2hFqKPBNGHMULcckOH7xbQ"/>
          <p:cNvPicPr/>
          <p:nvPr/>
        </p:nvPicPr>
        <p:blipFill>
          <a:blip r:embed="rId2"/>
          <a:stretch/>
        </p:blipFill>
        <p:spPr>
          <a:xfrm>
            <a:off x="2362320" y="13716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3" name="wind.wav"/>
      </p:stSnd>
    </p:sndAc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8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53352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1143000" y="6095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9999"/>
                </a:solidFill>
                <a:latin typeface="Snap ITC"/>
              </a:rPr>
              <a:t>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TextBox 6"/>
          <p:cNvSpPr/>
          <p:nvPr/>
        </p:nvSpPr>
        <p:spPr>
          <a:xfrm rot="19654800">
            <a:off x="1415880" y="2739960"/>
            <a:ext cx="52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Box 7"/>
          <p:cNvSpPr/>
          <p:nvPr/>
        </p:nvSpPr>
        <p:spPr>
          <a:xfrm rot="19483800">
            <a:off x="1402560" y="2739960"/>
            <a:ext cx="64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y is the title on the bottom??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Box 8"/>
          <p:cNvSpPr/>
          <p:nvPr/>
        </p:nvSpPr>
        <p:spPr>
          <a:xfrm rot="19345200">
            <a:off x="3105000" y="27795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h I have an idea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838080" y="6858000"/>
            <a:ext cx="4343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Box 10"/>
          <p:cNvSpPr/>
          <p:nvPr/>
        </p:nvSpPr>
        <p:spPr>
          <a:xfrm>
            <a:off x="5029200" y="608796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98d3"/>
                </a:solidFill>
                <a:latin typeface="Verdana"/>
              </a:rPr>
              <a:t>???????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trips dir="lu"/>
    <p:sndAc>
      <p:stSnd>
        <p:snd r:embed="rId1" name="coin.wav"/>
      </p:stSnd>
    </p:sndAc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6285 -0.09606 C 0.06649 -0.16759 0.07517 -0.23333 0.08264 -0.30393 C 0.08715 -0.34583 0.08889 -0.38773 0.09462 -0.42939 C 0.09722 -0.47523 0.09809 -0.5206 0.09931 -0.56666 C 0.09965 -0.57685 0.09983 -0.58703 0.10069 -0.59699 C 0.10139 -0.60439 0.09826 -0.61782 0.10382 -0.61921 C 0.13559 -0.62754 0.1684 -0.62175 0.20069 -0.62314 C 0.20781 -0.628 0.21111 -0.63449 0.21736 -0.64143 C 0.2184 -0.6456 0.2217 -0.64907 0.22205 -0.65347 C 0.22847 -0.75115 0.21944 -0.6905 0.225 -0.72615 C 0.22552 -0.73842 0.22622 -0.75046 0.22656 -0.76273 C 0.22917 -0.84745 0.23941 -0.83125 0.17656 -0.83125 E">
                                      <p:cBhvr>
                                        <p:cTn id="530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5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5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5c000"/>
                </a:solidFill>
                <a:latin typeface="Forte"/>
              </a:rPr>
              <a:t>Last Fast Facts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1" name="push.wav"/>
      </p:stSnd>
    </p:sndAc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6"/>
          <p:cNvSpPr/>
          <p:nvPr/>
        </p:nvSpPr>
        <p:spPr>
          <a:xfrm>
            <a:off x="1523880" y="1905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379760" y="2743200"/>
            <a:ext cx="1843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380880" y="30492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is Presentation is By: Peter Gagne, Ryan Lin, and Jason Ku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Hope you enjoyed it!!!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       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at’s a wrap!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is presentation was brought to you by: Mr. Griffith's Social Study Cla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Sponsors: None we did this for fre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All our included information is from the “Glencoe Geography: the World and Its People” and images from Goog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Box 9"/>
          <p:cNvSpPr/>
          <p:nvPr/>
        </p:nvSpPr>
        <p:spPr>
          <a:xfrm>
            <a:off x="1981080" y="205740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i="1" lang="en-US" sz="9600" spc="-1" strike="noStrike" u="sng">
                <a:solidFill>
                  <a:srgbClr val="000000"/>
                </a:solidFill>
                <a:uFillTx/>
                <a:latin typeface="Script MT Bold"/>
              </a:rPr>
              <a:t>The     End!!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  <p:sndAc>
      <p:stSnd>
        <p:snd r:embed="rId1" name="applause.wav"/>
      </p:stSnd>
    </p:sndAc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3Z</dcterms:created>
  <dc:creator>KUNG</dc:creator>
  <dc:description/>
  <dc:language>en-US</dc:language>
  <cp:lastModifiedBy>KUNG</cp:lastModifiedBy>
  <dcterms:modified xsi:type="dcterms:W3CDTF">2010-12-19T22:19:01Z</dcterms:modified>
  <cp:revision>24</cp:revision>
  <dc:subject/>
  <dc:title>Present Day Russia</dc:title>
</cp:coreProperties>
</file>